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4B1B-77BD-4036-8459-7E142C04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E0CC-4F3D-4752-AE2A-DEFD2AAA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B578-99CD-491F-A9E3-F4855D95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78C-2ABB-47F9-A953-FE9ABA55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21DD-8C85-4078-8159-60C736FC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91AB-E5C8-41D3-A23B-3AF38D97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7F72-09B4-46CF-AFE6-F2F39D29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F5E-B5E5-4F9D-86A4-22A34BD5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7BF-1452-4391-AA37-23447019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6612-8088-4627-AA10-ABDD11A9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592-83BF-4578-AB52-D3866D39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95FE-CA11-4549-8B0A-A1D8112F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94F7-AB92-4FDF-BD2F-C67808CAF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- Unit 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fine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raw diagonals in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observe shapes formed by diagonal lines in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fin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idpoin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plore ways to find the midpoint of a line seg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edict the shapes that will be formed by joining midpoints of opposite sides of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join midpoints of opposite sides of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- Unit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congruent fig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similar fig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a sorting rule to group 2-D fig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bine two- dimensional shapes to make new sha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redict the results of combining two-dimensional sha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redict the results of cutting apart two-dimensional sha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240" y="22860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2 – Unit 10 c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cognize transformations: slides, flips and tur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tend geometric patterns that use transforma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show and analyze patter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reate and extend growing and motion patter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find area by covering and counting non-standard square uni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alculate area by counting square centimeter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stimate the area of figures on centimeter grid pap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2860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unt to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1,000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hundre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present 3-digit numbers with boxes, sticks and circ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unt from a 3-digit number into the next hundr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tell the difference between hundreds, tens, and ones, and place them in the correct ord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unt by ones and tens over a hundred, from a number more than 100 to a number less than 1,00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1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stimate quantities (up to 1,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group objects into tens and hundr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gnize that 10 ones are equal to a ten and that 10 tens are equal to a hund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present addition problems to show place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pply knowledge of place value to story problems with groups of ten and a hundred and leftover 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2860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1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ake twenty-five cents with combinations of dimes, nickels and penn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dollar sign and decimal point to write dollar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buy and sell goods using exact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buy and sell goods using a five dollar bill, and make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plain how to make change from a five-dollar bil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860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11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group numbers when adding over 10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explain the methods used to solve addition story probl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discuss what make good explanations and good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invent ways to solve addition problems in which both numbers have three dig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organize data in a 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use information in a table to solve probl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add 3-digit money amou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28600" y="151920"/>
            <a:ext cx="86868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1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esent good explanations of methods used to solve numeric addition exerci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solving 2- and 3-digit addition exerci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Adding up Method to solve unknown partner exercises containing 3-digit numb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Adding up Method to make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reate and solve story problems involving 3-digit subtr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1 c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ubtract 3-digit numbers with a zero in the ones or tens place of the top numb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reate story problems involving 3-digit subtr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ubtract 3-digit numbers using ungroup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ubtract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story problems involving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ubtract from any 3-digit number with or without ungroup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present subtraction of any 3-digit numb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1 c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cognize whether or not ungrouping is necessary to subtract 3-digit numb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ungroup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criminate between addition and subtraction situations and apply the appropriate oper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addition to check subtraction and subtraction to check addi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complex story problems containing 3-digit numb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- Unit 11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discriminate between addition and subtraction situations and apply the appropriate  ope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money amounts from $1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buy and sell go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2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the mathematical processes in the context of problem solving, connections, reasoning and proof, communication and repres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8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raw diagonals and connect midpoints of opposite sides in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observe shapes formed by decomposing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- Unit 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mbine pennies, nickels, and dimes to make 25 c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unt by quarters, dimes, nickels, and pennies to different tot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- Unit 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ake a meter stic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mpare metric and monetary syst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easure the length and height of objects and peop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nter data in a t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reate and answer questions about da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fine meter, centimeter and decime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abbreviations cm, dm, and 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view relationships among centimeters, decimeters, and me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easure with metric uni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60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12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nvert measures in centimeters to a combination of meters , decimeters, and centime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story problems requiring metric conver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nderstand the base ten system in metric measurement and numb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cognize the base ten system in metric and monetary syst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story problems involving metric and monetary syst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2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tinguish between 2- and 3- dimensional shap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easure the length, width, and height of a rectangle pris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faces, edges, and vertices of a rectangle pris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unt cubic units to find volu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name 3-dimensional shap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termine if a solid stacks, rolls, and/or slid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mpare 3-dimensional shap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rt 3-dimensional shapes using a Venn diagra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2- Unit 1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cognize that multiplication is counting by a numb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late repeated addition and multiplic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solve multiplication problem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unt by 2’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cognize that multiplication is counting by a numb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unt by 3’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cognize that multiplication is counting by a numb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unt by 4’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cognize that multiplication is counting by a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unt by 5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the array model for multi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count bys and arrays to solve multiplication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the comparative term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alf, double, tw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qual shar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priat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ad information in a grap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2 – Unit 13 c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nderstand the meaning of division of equal shares and as repeated subtrac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models to solve simple division problem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find lines of symmet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cognize and draw symmetrical shap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find symmetry in everyday objec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identify and represent one half, one third, one fourth, two thirds, and three fourths in geometrical shap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nderstand what numerator and denominator signif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3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fractions using fraction stri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write money amounts in fra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events as impossible, possible or cert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iscuss whether a game is fair or unfa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redict the results of a probability experiment and then do the experiment to check the pre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52280" y="22860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13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all possible outcomes for a probability experiment and decide which is most likely  and least likely to happen.  Then do the experiment to check the predi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numbers to describe the probability of an ev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find all the possible combinations for a given situ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mathematical processes in the context of problem solving, connections, reasoning and proof, communication, and repres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860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2- Unit 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non-standard uni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stimate and measure in inch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measure in feet and yar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select the best customary unit to measure a specific lengt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nvert between inches, feet and yar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select proper measurement tools to be used for a given situ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stimate and measure with cups, pints, quarts, and gall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stimate ounces and poun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de 2 Extension 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1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sets of unlike co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order sets of unlike co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the value of 2 sets of mixed cur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kip count forward and back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nalyze numeric patt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a calculator for counting patter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9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tate how many pennies, nickels, dimes,  and quarters, equal one dol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bine quarters, dimes, nickels, and pennies  to equal one dol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unt one dollar and co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find unknown partn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observe similarities between ten partners and hundred partn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different methods to find partners of 1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nvent different ways to solve 100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erci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de 2 Extension Unit cont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cognize and describe changes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describe qualitative and quantitative chang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bine 3-dimensional shapes to make new sha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predict the results of combining 3-dimensional sha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predict the results of taking apart 3-dimensional sha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9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ngroup a ten into ten ones in order to subtr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nvent ways to solve subtraction story problems.  I can decide when to ungroup and when not to ungro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lain subtraction methods for rewriting a top number to show ungroup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2-digit subtraction problems using the Expanded Method and the Ungroup First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9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iscuss the advantages and disadvantages of two subtraction meth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subtraction story problems with a preferred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lain a 2-digit subtraction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pply methods for solving 2-digit subtraction problems with totals of 2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lain how to subtract from a total of 2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9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a 2-digit number from any 3-digit number under 2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decide when to ungroup and rewrite in subtr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2-digit numbers  from numbers with a zero in the tens or ones place (totals to 200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make change for a dollar in dimes and penn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exact ch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- Unit 9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addition and subtraction 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partners in numbers to 2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and count on to find unknown partn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eight equations from a math mount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a preferred method to solve addition and subtraction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explain a method of solving 2-digit addition and subtraction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2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9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up to find unknown partn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up to calculate change from two doll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money amounts and subtract the total from two dollars numerically or by adding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up to solve unknown partner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9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up to solve unknown partner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in the context of problem solving, connections, reasoning and proof, communication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1:05:24Z</dcterms:created>
  <dc:creator>MCPS</dc:creator>
  <dc:description/>
  <dc:language>en-US</dc:language>
  <cp:lastModifiedBy>MCPS  User</cp:lastModifiedBy>
  <dcterms:modified xsi:type="dcterms:W3CDTF">2010-03-11T17:56:04Z</dcterms:modified>
  <cp:revision>100</cp:revision>
  <dc:subject/>
  <dc:title>Slide 1</dc:title>
</cp:coreProperties>
</file>